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2E47-14C8-4724-81ED-0C562673D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F10F-E705-4E1A-85FC-B292332B3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DB87-5C1B-445B-928B-78F2D0A39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EAF8-3682-44FD-BB0F-AC5F74B4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4D1F-7749-49EF-85BF-BA26D1A98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FA8E-5524-4585-B554-70BFF5D24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46C6-D6A0-4F8D-BD50-22AA960D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7D69-76EB-42F0-ABCA-A7AFB43D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7F7E-DFE1-4E1A-A7C6-D1C7E27E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B37C-1C7E-474B-ABAF-233BC5C5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7654-D15B-4E38-8358-F2B4CFC2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094B-D38E-4E7F-9930-0F05D625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0748-39FF-472F-BD2B-CC9DE559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3B6E-D111-49AB-9A8B-4E8A198F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558D-5014-4041-941C-425FC5A25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4.jpeg"/><Relationship Id="rId11" Type="http://schemas.openxmlformats.org/officeDocument/2006/relationships/image" Target="../media/image6.jpe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hristy Latsoun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hristy Latsoun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Christy Latsounas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Christy Latsouna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9718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Christy Latsoun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lm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weet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oki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6"/>
          <p:cNvSpPr/>
          <p:nvPr/>
        </p:nvSpPr>
        <p:spPr>
          <a:xfrm flipH="1">
            <a:off x="1371600" y="579132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lves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Anim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iene el libros de matemáticas.¿ Dónde estás cookie?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cooki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ías, muy bien. ¿Que es la terea ? .¿ Tienes  tus libros 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atemáticas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Sylve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como estás?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Sylve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Él está en su cuarto grande y reluciente. Yo no se cookie. Estam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juntos ahora. Nuestros amigos llegan. Tu carro está  aquí. Nosotros somo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Guapos y buscamos tweety ahor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Anima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eno ahora.¿ Por qué eres tú guapo? No importa adió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Sylve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cha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2"/>
          <p:cNvSpPr/>
          <p:nvPr/>
        </p:nvSpPr>
        <p:spPr>
          <a:xfrm>
            <a:off x="765360" y="6400800"/>
            <a:ext cx="56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228600" y="3733920"/>
            <a:ext cx="16002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Mi nobre es christy. Tengo 14 años. Estoy feliz. Vivo en New york. Amo  cantar y bailar. Hago gimnasia. Escucho música loca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1" descr="551524_497579363608127_481304548_n"/>
          <p:cNvPicPr/>
          <p:nvPr/>
        </p:nvPicPr>
        <p:blipFill>
          <a:blip r:embed="rId1"/>
          <a:stretch/>
        </p:blipFill>
        <p:spPr>
          <a:xfrm>
            <a:off x="152280" y="838080"/>
            <a:ext cx="1524240" cy="1378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3" descr="ANd9GcTV69yPXS68d1YRSpVN2tZd0v6c-sdrpaIslawEtFftBzY89Reg"/>
          <p:cNvPicPr/>
          <p:nvPr/>
        </p:nvPicPr>
        <p:blipFill>
          <a:blip r:embed="rId2"/>
          <a:stretch/>
        </p:blipFill>
        <p:spPr>
          <a:xfrm>
            <a:off x="152280" y="5257800"/>
            <a:ext cx="533520" cy="422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5" descr="ANd9GcRa8e_m7-RDFwIelu_UhP5Wd4rSItYO85G1LcA3cxMTl0Yylc8wWQ"/>
          <p:cNvPicPr/>
          <p:nvPr/>
        </p:nvPicPr>
        <p:blipFill>
          <a:blip r:embed="rId3"/>
          <a:stretch/>
        </p:blipFill>
        <p:spPr>
          <a:xfrm>
            <a:off x="838080" y="5257800"/>
            <a:ext cx="451080" cy="457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7" descr="ANd9GcQf5mJR3sD-OlOaCkm8vTiLZ_GKFKWeC4aJTgmChLwod8AMhfy6"/>
          <p:cNvPicPr/>
          <p:nvPr/>
        </p:nvPicPr>
        <p:blipFill>
          <a:blip r:embed="rId4"/>
          <a:stretch/>
        </p:blipFill>
        <p:spPr>
          <a:xfrm>
            <a:off x="1371600" y="5257800"/>
            <a:ext cx="461880" cy="533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9" descr="ANd9GcS_eJE2CB7yF7ZqHgF62vmxxKTULrOp3Qq0TNTLeXZv4X7MliEJ6Q"/>
          <p:cNvPicPr/>
          <p:nvPr/>
        </p:nvPicPr>
        <p:blipFill>
          <a:blip r:embed="rId5"/>
          <a:stretch/>
        </p:blipFill>
        <p:spPr>
          <a:xfrm>
            <a:off x="2133720" y="3200400"/>
            <a:ext cx="457200" cy="409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2" descr="ANd9GcQp2xjpl3aCtxUS7FZbN3aLGN2HFkYFXIUUglxQsvCBBeoEZy20"/>
          <p:cNvPicPr/>
          <p:nvPr/>
        </p:nvPicPr>
        <p:blipFill>
          <a:blip r:embed="rId6"/>
          <a:stretch/>
        </p:blipFill>
        <p:spPr>
          <a:xfrm>
            <a:off x="838080" y="5943600"/>
            <a:ext cx="462240" cy="461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7" descr="ANd9GcQf5mJR3sD-OlOaCkm8vTiLZ_GKFKWeC4aJTgmChLwod8AMhfy6"/>
          <p:cNvPicPr/>
          <p:nvPr/>
        </p:nvPicPr>
        <p:blipFill>
          <a:blip r:embed="rId7"/>
          <a:stretch/>
        </p:blipFill>
        <p:spPr>
          <a:xfrm>
            <a:off x="2209680" y="2590920"/>
            <a:ext cx="462240" cy="533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9" descr="ANd9GcS_eJE2CB7yF7ZqHgF62vmxxKTULrOp3Qq0TNTLeXZv4X7MliEJ6Q"/>
          <p:cNvPicPr/>
          <p:nvPr/>
        </p:nvPicPr>
        <p:blipFill>
          <a:blip r:embed="rId8"/>
          <a:stretch/>
        </p:blipFill>
        <p:spPr>
          <a:xfrm>
            <a:off x="152280" y="5943600"/>
            <a:ext cx="457200" cy="409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2" descr="ANd9GcQp2xjpl3aCtxUS7FZbN3aLGN2HFkYFXIUUglxQsvCBBeoEZy20"/>
          <p:cNvPicPr/>
          <p:nvPr/>
        </p:nvPicPr>
        <p:blipFill>
          <a:blip r:embed="rId9"/>
          <a:stretch/>
        </p:blipFill>
        <p:spPr>
          <a:xfrm>
            <a:off x="2133720" y="3809880"/>
            <a:ext cx="461880" cy="462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7" descr="ANd9GcQf5mJR3sD-OlOaCkm8vTiLZ_GKFKWeC4aJTgmChLwod8AMhfy6"/>
          <p:cNvPicPr/>
          <p:nvPr/>
        </p:nvPicPr>
        <p:blipFill>
          <a:blip r:embed="rId10"/>
          <a:stretch/>
        </p:blipFill>
        <p:spPr>
          <a:xfrm>
            <a:off x="2133720" y="4419720"/>
            <a:ext cx="461880" cy="53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2" descr="ANd9GcQp2xjpl3aCtxUS7FZbN3aLGN2HFkYFXIUUglxQsvCBBeoEZy20"/>
          <p:cNvPicPr/>
          <p:nvPr/>
        </p:nvPicPr>
        <p:blipFill>
          <a:blip r:embed="rId11"/>
          <a:stretch/>
        </p:blipFill>
        <p:spPr>
          <a:xfrm>
            <a:off x="2133720" y="5257800"/>
            <a:ext cx="461880" cy="461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7" descr="ANd9GcQf5mJR3sD-OlOaCkm8vTiLZ_GKFKWeC4aJTgmChLwod8AMhfy6"/>
          <p:cNvPicPr/>
          <p:nvPr/>
        </p:nvPicPr>
        <p:blipFill>
          <a:blip r:embed="rId12"/>
          <a:stretch/>
        </p:blipFill>
        <p:spPr>
          <a:xfrm>
            <a:off x="2209680" y="5943600"/>
            <a:ext cx="462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3:27:01Z</dcterms:created>
  <dc:creator>FriscoISD</dc:creator>
  <dc:description/>
  <dc:language>en-US</dc:language>
  <cp:lastModifiedBy>NYCDOE</cp:lastModifiedBy>
  <dcterms:modified xsi:type="dcterms:W3CDTF">2012-12-07T13:58:06Z</dcterms:modified>
  <cp:revision>108</cp:revision>
  <dc:subject/>
  <dc:title>Profile</dc:title>
</cp:coreProperties>
</file>